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22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0.png" ContentType="image/png"/>
  <Override PartName="/ppt/media/image5.png" ContentType="image/png"/>
  <Override PartName="/ppt/media/image28.jpeg" ContentType="image/jpeg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084-F530-4200-8735-5F7DC99B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A52-FEFD-4048-A45A-A510FC3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305-3FC6-490F-ABA7-FC613F85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5B8-F9E7-4019-96C9-4310F153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BCEF-8FF8-4C8D-9B96-419CA58F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48F1-F908-4E0B-8B31-32C6093C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FE78-8B83-4E99-BB75-13415A1B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AF67-8AC1-4459-AB4F-C668BAAF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F1F8-E2A1-4FB5-9ACA-BC0F469A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C0A8-19F5-4C6E-B4FC-154F13F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FC24-0580-489E-83AB-280FD9A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DF7-0A58-4749-B59E-58B7E050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67B9-5E97-4493-BCF2-7C6611B0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72B9-8DA0-4154-BCB6-5D8486B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D57E-FCC2-4466-B6BF-9184A8CB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B210-8007-4DCE-AAAA-032A071D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53CC-BC7E-4C76-B8DD-1E831DD7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97E1-913F-4787-BBA4-021105A7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9D26-FE49-44EC-A55E-AB78579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4000-1849-4985-BD57-49F91C86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C55A-5A20-43E1-9B28-D4C54753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FD58D-C3BD-4947-BDB3-0766046E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021-3C5E-477E-BA61-3BBA049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E00F-2845-49D6-B028-283B3A2B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D773-8680-434E-8FA6-3905D78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ACE3-8DA8-432B-97AD-D192F23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286B-30AB-4A9C-827C-F3289F44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A5BA-8D55-4318-88DE-34655196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D991-4264-4B13-AD2A-1BB0B35C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46B6-BA33-49F0-875A-FBD49E7B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123-4314-4F4F-9A3E-BD12A55E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A5D-8C61-44F0-BF1D-B5BC913F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B46-4E18-4F7B-9280-D00512EF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200-AB0A-4E74-A62D-A312AC5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92C-BE29-436B-A7A2-CF508D9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5A9-8C01-4888-B2F7-37FB7E0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-1440"/>
            <a:ext cx="9144000" cy="4943160"/>
          </a:xfrm>
          <a:prstGeom prst="rect">
            <a:avLst/>
          </a:prstGeom>
          <a:solidFill>
            <a:srgbClr val="c0c0c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6080" indent="-31608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23720" indent="42228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847800" indent="-180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0080" indent="-42408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1693800" indent="-84780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1693800" indent="-847800">
              <a:spcBef>
                <a:spcPts val="4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1693800" indent="-847800">
              <a:spcBef>
                <a:spcPts val="4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3522-B0E1-409D-883B-DDF6CDAF6965}" type="datetime"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A60-ADC4-47B9-B775-5ADF35089C7C}" type="slidenum"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590840" y="0"/>
            <a:ext cx="7553160" cy="6845400"/>
          </a:xfrm>
          <a:prstGeom prst="rect">
            <a:avLst/>
          </a:prstGeom>
          <a:solidFill>
            <a:srgbClr val="c0c0c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69920" y="1596600"/>
            <a:ext cx="671688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479520" indent="4791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95868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438200" indent="-47952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917720" indent="-95904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917720" indent="-9590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917720" indent="-9590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FBF7-EA7C-435A-A05C-BBB6790B3827}" type="slidenum">
              <a: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6600"/>
            <a:ext cx="822816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4791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5868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38200" indent="-47952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17720" indent="-95904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17720" indent="-95904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17720" indent="-95904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9CFE-8F2A-48FD-A215-3C09010065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1214280" y="21430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8.2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消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解二元一次方程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857240" y="31431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课时  用加减消元法解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3"/>
          <p:cNvGrpSpPr/>
          <p:nvPr/>
        </p:nvGrpSpPr>
        <p:grpSpPr>
          <a:xfrm>
            <a:off x="1285920" y="1285920"/>
            <a:ext cx="3387960" cy="1439640"/>
            <a:chOff x="1285920" y="1285920"/>
            <a:chExt cx="3387960" cy="1439640"/>
          </a:xfrm>
        </p:grpSpPr>
        <mc:AlternateContent>
          <mc:Choice xmlns:a14="http://schemas.microsoft.com/office/drawing/2010/main" Requires="a14">
            <p:sp>
              <p:nvSpPr>
                <p:cNvPr id="260" name="Object 4"/>
                <p:cNvSpPr txBox="1"/>
                <p:nvPr/>
              </p:nvSpPr>
              <p:spPr>
                <a:xfrm>
                  <a:off x="1285920" y="1285920"/>
                  <a:ext cx="2775600" cy="14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Rectangle 5"/>
            <p:cNvSpPr/>
            <p:nvPr/>
          </p:nvSpPr>
          <p:spPr>
            <a:xfrm>
              <a:off x="4220280" y="138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4220280" y="21160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1943280" y="299736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解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由①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+②,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得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5</a:t>
            </a:r>
            <a:r>
              <a:rPr b="0" i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x=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547640" y="421812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把</a:t>
            </a:r>
            <a:r>
              <a:rPr b="0" i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代入①，得 </a:t>
            </a:r>
            <a:r>
              <a:rPr b="0" i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y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851280" y="3502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1511280" y="4943520"/>
            <a:ext cx="5343480" cy="1477800"/>
            <a:chOff x="1511280" y="4943520"/>
            <a:chExt cx="5343480" cy="1477800"/>
          </a:xfrm>
        </p:grpSpPr>
        <p:graphicFrame>
          <p:nvGraphicFramePr>
            <p:cNvPr id="267" name="Object 11"/>
            <p:cNvGraphicFramePr/>
            <p:nvPr/>
          </p:nvGraphicFramePr>
          <p:xfrm>
            <a:off x="5349960" y="4943520"/>
            <a:ext cx="1504800" cy="147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49960" y="4943520"/>
                      <a:ext cx="1504800" cy="14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" name="Text Box 12"/>
            <p:cNvSpPr/>
            <p:nvPr/>
          </p:nvSpPr>
          <p:spPr>
            <a:xfrm>
              <a:off x="1511280" y="5405400"/>
              <a:ext cx="39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5050"/>
                  </a:solidFill>
                  <a:latin typeface="Arial"/>
                  <a:ea typeface="宋体"/>
                </a:rPr>
                <a:t>所以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114560" y="765000"/>
            <a:ext cx="38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加减消元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042920" y="4329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个二元一次方程中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同一未知数的系数相反或相等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将两个方程的两边分别相加或相减，就能消去这个未知数，得到一个一元一次方程，这种方法叫做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加减消元法，简称加减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1446120" y="1839960"/>
            <a:ext cx="3322080" cy="1444680"/>
            <a:chOff x="1446120" y="1839960"/>
            <a:chExt cx="3322080" cy="1444680"/>
          </a:xfrm>
        </p:grpSpPr>
        <p:graphicFrame>
          <p:nvGraphicFramePr>
            <p:cNvPr id="273" name="Object 5"/>
            <p:cNvGraphicFramePr/>
            <p:nvPr/>
          </p:nvGraphicFramePr>
          <p:xfrm>
            <a:off x="1446120" y="1839960"/>
            <a:ext cx="2711520" cy="14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6120" y="1839960"/>
                      <a:ext cx="2711520" cy="14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Rectangle 6"/>
            <p:cNvSpPr/>
            <p:nvPr/>
          </p:nvSpPr>
          <p:spPr>
            <a:xfrm>
              <a:off x="4313520" y="19450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4314600" y="26730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8"/>
          <p:cNvSpPr/>
          <p:nvPr/>
        </p:nvSpPr>
        <p:spPr>
          <a:xfrm>
            <a:off x="1258920" y="34974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+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: 5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=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5940360" y="1773360"/>
            <a:ext cx="358920" cy="151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5148360" y="1628640"/>
            <a:ext cx="33843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x+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=10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x+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=16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1"/>
          <p:cNvSpPr/>
          <p:nvPr/>
        </p:nvSpPr>
        <p:spPr>
          <a:xfrm>
            <a:off x="5076720" y="1917720"/>
            <a:ext cx="162000" cy="1189080"/>
          </a:xfrm>
          <a:custGeom>
            <a:avLst/>
            <a:gdLst>
              <a:gd name="textAreaLeft" fmla="*/ 103680 w 162000"/>
              <a:gd name="textAreaRight" fmla="*/ 162360 w 16200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5005440" y="34624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 ②－①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268360" y="1773360"/>
            <a:ext cx="541440" cy="1512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890720" y="281304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别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705708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24000" y="1762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914560" y="168588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3205080" y="15573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x+3y=1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220200" y="2219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x-3y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5104800" y="183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个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4170240" y="2924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就可以消去未知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1908000" y="3429000"/>
            <a:ext cx="5486400" cy="360"/>
            <a:chOff x="1908000" y="3429000"/>
            <a:chExt cx="5486400" cy="360"/>
          </a:xfrm>
        </p:grpSpPr>
        <p:grpSp>
          <p:nvGrpSpPr>
            <p:cNvPr id="292" name=""/>
            <p:cNvGrpSpPr/>
            <p:nvPr/>
          </p:nvGrpSpPr>
          <p:grpSpPr>
            <a:xfrm>
              <a:off x="7013520" y="3429000"/>
              <a:ext cx="380880" cy="360"/>
              <a:chOff x="7013520" y="3429000"/>
              <a:chExt cx="380880" cy="360"/>
            </a:xfrm>
          </p:grpSpPr>
          <p:sp>
            <p:nvSpPr>
              <p:cNvPr id="293" name="Line 11"/>
              <p:cNvSpPr/>
              <p:nvPr/>
            </p:nvSpPr>
            <p:spPr>
              <a:xfrm>
                <a:off x="7013520" y="3429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7013520" y="342900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908000" y="3429000"/>
              <a:ext cx="1752480" cy="360"/>
              <a:chOff x="1908000" y="3429000"/>
              <a:chExt cx="1752480" cy="360"/>
            </a:xfrm>
          </p:grpSpPr>
          <p:sp>
            <p:nvSpPr>
              <p:cNvPr id="296" name="Line 12"/>
              <p:cNvSpPr/>
              <p:nvPr/>
            </p:nvSpPr>
            <p:spPr>
              <a:xfrm>
                <a:off x="1908000" y="34290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1908000" y="342900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Rectangle 13"/>
          <p:cNvSpPr/>
          <p:nvPr/>
        </p:nvSpPr>
        <p:spPr>
          <a:xfrm>
            <a:off x="2050920" y="519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别相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20000" y="5877000"/>
            <a:ext cx="380880" cy="360"/>
            <a:chOff x="7020000" y="5877000"/>
            <a:chExt cx="380880" cy="360"/>
          </a:xfrm>
        </p:grpSpPr>
        <p:sp>
          <p:nvSpPr>
            <p:cNvPr id="300" name="Line 14"/>
            <p:cNvSpPr/>
            <p:nvPr/>
          </p:nvSpPr>
          <p:spPr>
            <a:xfrm>
              <a:off x="7020000" y="5877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020000" y="58770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15"/>
          <p:cNvSpPr/>
          <p:nvPr/>
        </p:nvSpPr>
        <p:spPr>
          <a:xfrm>
            <a:off x="358920" y="4443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3060720" y="4221000"/>
            <a:ext cx="257040" cy="847800"/>
          </a:xfrm>
          <a:custGeom>
            <a:avLst/>
            <a:gdLst>
              <a:gd name="textAreaLeft" fmla="*/ 164160 w 257040"/>
              <a:gd name="textAreaRight" fmla="*/ 257400 w 257040"/>
              <a:gd name="textAreaTop" fmla="*/ 21960 h 847800"/>
              <a:gd name="textAreaBottom" fmla="*/ 825840 h 84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3287520" y="407196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5x-7y=1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3332160" y="477504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5x+6y=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5556600" y="439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278240" y="537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就可以消去未知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87640" y="5877000"/>
            <a:ext cx="1752480" cy="360"/>
            <a:chOff x="2087640" y="5877000"/>
            <a:chExt cx="1752480" cy="360"/>
          </a:xfrm>
        </p:grpSpPr>
        <p:sp>
          <p:nvSpPr>
            <p:cNvPr id="309" name="Line 21"/>
            <p:cNvSpPr/>
            <p:nvPr/>
          </p:nvSpPr>
          <p:spPr>
            <a:xfrm>
              <a:off x="2087640" y="5877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2087640" y="58770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22"/>
          <p:cNvSpPr/>
          <p:nvPr/>
        </p:nvSpPr>
        <p:spPr>
          <a:xfrm>
            <a:off x="7093080" y="5265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7057080" y="52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0" y="296064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要两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250920" y="53006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要两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片 28" descr="QQ截图20140828112236.png"/>
          <p:cNvPicPr/>
          <p:nvPr/>
        </p:nvPicPr>
        <p:blipFill>
          <a:blip r:embed="rId1"/>
          <a:stretch/>
        </p:blipFill>
        <p:spPr>
          <a:xfrm>
            <a:off x="214200" y="857160"/>
            <a:ext cx="1790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0" y="1725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加减法解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419640" y="14860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635280" y="1413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x+7y=-19,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635280" y="2060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x-5y=17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6234120" y="170172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51160" y="2792520"/>
            <a:ext cx="20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.①-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2680" y="27925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.①-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936360" y="3402000"/>
            <a:ext cx="26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. ②-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去常数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4892040" y="340200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都不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7021080" y="170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476280" y="45720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1908000" y="4365720"/>
            <a:ext cx="135000" cy="961920"/>
          </a:xfrm>
          <a:custGeom>
            <a:avLst/>
            <a:gdLst>
              <a:gd name="textAreaLeft" fmla="*/ 86400 w 135000"/>
              <a:gd name="textAreaRight" fmla="*/ 135360 w 135000"/>
              <a:gd name="textAreaTop" fmla="*/ 24840 h 961920"/>
              <a:gd name="textAreaBottom" fmla="*/ 937080 h 96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2053080" y="42926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x+2y=1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2052000" y="48690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x-2y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3809880" y="4648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所得的方程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7502040" y="4572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503280" y="56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.6x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2158920" y="57340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.6x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2"/>
          <p:cNvSpPr/>
          <p:nvPr/>
        </p:nvSpPr>
        <p:spPr>
          <a:xfrm>
            <a:off x="4103640" y="573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.6x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5904000" y="56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.x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图片 23" descr="QQ截图20140828112236.png"/>
          <p:cNvPicPr/>
          <p:nvPr/>
        </p:nvPicPr>
        <p:blipFill>
          <a:blip r:embed="rId1"/>
          <a:stretch/>
        </p:blipFill>
        <p:spPr>
          <a:xfrm>
            <a:off x="214200" y="857160"/>
            <a:ext cx="179064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2143080" y="35712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指出下列方程组求解过程中有错误步骤，并给予订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68360" y="1449360"/>
            <a:ext cx="3672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7x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4y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x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4y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＝－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－②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2x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800160" y="15210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7524720" y="1413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492360" y="270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7470720" y="198900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3981600" y="227664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1295280" y="1665360"/>
            <a:ext cx="71640" cy="755640"/>
          </a:xfrm>
          <a:custGeom>
            <a:avLst/>
            <a:gdLst>
              <a:gd name="textAreaLeft" fmla="*/ 45720 w 71640"/>
              <a:gd name="textAreaRight" fmla="*/ 72000 w 71640"/>
              <a:gd name="textAreaTop" fmla="*/ 19440 h 755640"/>
              <a:gd name="textAreaBottom" fmla="*/ 736200 h 7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4"/>
                  <a:pt x="10800" y="1807"/>
                </a:cubicBezTo>
                <a:lnTo>
                  <a:pt x="10800" y="8993"/>
                </a:lnTo>
                <a:cubicBezTo>
                  <a:pt x="10800" y="9897"/>
                  <a:pt x="5400" y="10800"/>
                  <a:pt x="0" y="10800"/>
                </a:cubicBezTo>
                <a:cubicBezTo>
                  <a:pt x="5400" y="10800"/>
                  <a:pt x="10800" y="11704"/>
                  <a:pt x="10800" y="12607"/>
                </a:cubicBezTo>
                <a:lnTo>
                  <a:pt x="10800" y="19793"/>
                </a:lnTo>
                <a:cubicBezTo>
                  <a:pt x="10800" y="206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4896000" y="1628640"/>
            <a:ext cx="215640" cy="86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076720" y="1413000"/>
            <a:ext cx="3816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3x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4y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x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4y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－②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1332000" y="46162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解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　①－②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2x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＋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　　　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4896000" y="4572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解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　①＋②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　　    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8x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　　　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x 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＝</a:t>
            </a:r>
            <a:r>
              <a:rPr b="0" lang="zh-CN" sz="2800" spc="-1" strike="noStrike">
                <a:solidFill>
                  <a:srgbClr val="ff5050"/>
                </a:solidFill>
                <a:latin typeface="Verdana"/>
                <a:ea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14" descr="QQ截图20140828112236.png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753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428760" y="642960"/>
            <a:ext cx="4032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加减法解方程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76360" y="338724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分 析：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对于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方程组中两方程不具备上述特点时，则可用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等式性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改变方程组中方程的形式，即得到与原方程组同解的且某未知数系数的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绝对值相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新的方程组，从而为加减消元法解方程组创造条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928800" y="1357200"/>
            <a:ext cx="3931920" cy="1352520"/>
            <a:chOff x="928800" y="1357200"/>
            <a:chExt cx="3931920" cy="1352520"/>
          </a:xfrm>
        </p:grpSpPr>
        <p:pic>
          <p:nvPicPr>
            <p:cNvPr id="354" name="Object 7" descr=""/>
            <p:cNvPicPr/>
            <p:nvPr/>
          </p:nvPicPr>
          <p:blipFill>
            <a:blip r:embed="rId1"/>
            <a:stretch/>
          </p:blipFill>
          <p:spPr>
            <a:xfrm>
              <a:off x="928800" y="1357200"/>
              <a:ext cx="3468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8"/>
            <p:cNvSpPr/>
            <p:nvPr/>
          </p:nvSpPr>
          <p:spPr>
            <a:xfrm>
              <a:off x="4397040" y="147528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9"/>
            <p:cNvSpPr/>
            <p:nvPr/>
          </p:nvSpPr>
          <p:spPr>
            <a:xfrm>
              <a:off x="4402080" y="213192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395280" y="13824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面这些方程组的特点是什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这类方程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主要步骤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539640" y="4149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主要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89040" y="3105000"/>
            <a:ext cx="7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3968640"/>
            <a:ext cx="936720" cy="360"/>
            <a:chOff x="5400720" y="3968640"/>
            <a:chExt cx="936720" cy="360"/>
          </a:xfrm>
        </p:grpSpPr>
        <p:sp>
          <p:nvSpPr>
            <p:cNvPr id="361" name="Line 7"/>
            <p:cNvSpPr/>
            <p:nvPr/>
          </p:nvSpPr>
          <p:spPr>
            <a:xfrm>
              <a:off x="5400720" y="3968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5400720" y="396864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8"/>
          <p:cNvSpPr/>
          <p:nvPr/>
        </p:nvSpPr>
        <p:spPr>
          <a:xfrm>
            <a:off x="833040" y="37155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基本思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2519280" y="576900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2484360" y="497664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2519280" y="418464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4356000" y="371628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6372360" y="371628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2560320" y="37162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减消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4500720" y="4292640"/>
            <a:ext cx="25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去一个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4392720" y="5049720"/>
            <a:ext cx="52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求出两个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4572000" y="578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写出原方程组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4640760" y="3068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同一个未知数的系数相同或互为相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564000" y="6093000"/>
            <a:ext cx="914400" cy="360"/>
            <a:chOff x="3564000" y="6093000"/>
            <a:chExt cx="914400" cy="360"/>
          </a:xfrm>
        </p:grpSpPr>
        <p:sp>
          <p:nvSpPr>
            <p:cNvPr id="375" name="Line 19"/>
            <p:cNvSpPr/>
            <p:nvPr/>
          </p:nvSpPr>
          <p:spPr>
            <a:xfrm>
              <a:off x="3564000" y="6093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564000" y="60930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492360" y="5300640"/>
            <a:ext cx="914400" cy="1440"/>
            <a:chOff x="3492360" y="5300640"/>
            <a:chExt cx="914400" cy="1440"/>
          </a:xfrm>
        </p:grpSpPr>
        <p:sp>
          <p:nvSpPr>
            <p:cNvPr id="378" name="Line 20"/>
            <p:cNvSpPr/>
            <p:nvPr/>
          </p:nvSpPr>
          <p:spPr>
            <a:xfrm>
              <a:off x="3492360" y="530064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492360" y="5300640"/>
              <a:ext cx="9144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527280" y="4508640"/>
            <a:ext cx="914400" cy="360"/>
            <a:chOff x="3527280" y="4508640"/>
            <a:chExt cx="914400" cy="360"/>
          </a:xfrm>
        </p:grpSpPr>
        <p:sp>
          <p:nvSpPr>
            <p:cNvPr id="381" name="Line 21"/>
            <p:cNvSpPr/>
            <p:nvPr/>
          </p:nvSpPr>
          <p:spPr>
            <a:xfrm>
              <a:off x="3527280" y="4508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3527280" y="450864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" y="154080"/>
            <a:ext cx="1981080" cy="1116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解方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Object 3" descr=""/>
          <p:cNvPicPr/>
          <p:nvPr/>
        </p:nvPicPr>
        <p:blipFill>
          <a:blip r:embed="rId1"/>
          <a:stretch/>
        </p:blipFill>
        <p:spPr>
          <a:xfrm>
            <a:off x="1260360" y="44280"/>
            <a:ext cx="26654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385" name=""/>
          <p:cNvGrpSpPr/>
          <p:nvPr/>
        </p:nvGrpSpPr>
        <p:grpSpPr>
          <a:xfrm>
            <a:off x="4861080" y="189000"/>
            <a:ext cx="4174920" cy="1517760"/>
            <a:chOff x="4861080" y="189000"/>
            <a:chExt cx="4174920" cy="1517760"/>
          </a:xfrm>
        </p:grpSpPr>
        <p:sp>
          <p:nvSpPr>
            <p:cNvPr id="386" name=""/>
            <p:cNvSpPr/>
            <p:nvPr/>
          </p:nvSpPr>
          <p:spPr>
            <a:xfrm>
              <a:off x="4861080" y="189000"/>
              <a:ext cx="4174920" cy="1297080"/>
            </a:xfrm>
            <a:prstGeom prst="cloudCallout">
              <a:avLst>
                <a:gd name="adj1" fmla="val -53703"/>
                <a:gd name="adj2" fmla="val 318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"/>
            <p:cNvSpPr/>
            <p:nvPr/>
          </p:nvSpPr>
          <p:spPr>
            <a:xfrm>
              <a:off x="6187320" y="333000"/>
              <a:ext cx="2251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本例题可以用加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元法来做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ectangle 5"/>
          <p:cNvSpPr/>
          <p:nvPr/>
        </p:nvSpPr>
        <p:spPr>
          <a:xfrm>
            <a:off x="396720" y="14860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f1803"/>
                </a:solidFill>
                <a:latin typeface="隶书"/>
                <a:ea typeface="隶书"/>
              </a:rPr>
              <a:t>问题</a:t>
            </a:r>
            <a:r>
              <a:rPr b="0" lang="zh-CN" sz="3600" spc="-1" strike="noStrike">
                <a:solidFill>
                  <a:srgbClr val="df1803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df1803"/>
                </a:solidFill>
                <a:latin typeface="隶书"/>
                <a:ea typeface="隶书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这两个方程直接相加减能消去未知数吗？为什么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96720" y="267336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f1803"/>
                </a:solidFill>
                <a:latin typeface="隶书"/>
                <a:ea typeface="隶书"/>
              </a:rPr>
              <a:t>问题</a:t>
            </a:r>
            <a:r>
              <a:rPr b="0" lang="zh-CN" sz="3600" spc="-1" strike="noStrike">
                <a:solidFill>
                  <a:srgbClr val="df1803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df1803"/>
                </a:solidFill>
                <a:latin typeface="隶书"/>
                <a:ea typeface="隶书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那么怎样使方程组中某一未知数系数的绝对值相等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57120" y="450828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分 析：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对于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方程组中两方程不具备上述特点时，则可用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等式性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改变方程组中方程的形式，即得到与原方程组同解的且某未知数系数的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绝对值相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新的方程组，从而为加减消元法解方程组创造条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Object 2"/>
          <p:cNvGraphicFramePr/>
          <p:nvPr/>
        </p:nvGraphicFramePr>
        <p:xfrm>
          <a:off x="5940360" y="5518080"/>
          <a:ext cx="33012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5518080"/>
                    <a:ext cx="3301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4"/>
          <p:cNvSpPr/>
          <p:nvPr/>
        </p:nvSpPr>
        <p:spPr>
          <a:xfrm>
            <a:off x="289080" y="152280"/>
            <a:ext cx="1979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解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403280" y="1881360"/>
            <a:ext cx="65534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解：①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×3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，得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9x+12y=48 ,    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③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   ②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×2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，得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10x-12y=66.     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④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      ③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十④，得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19x= 11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                           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x 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把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x =6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代入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①，得 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3×6+4y=16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                                 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4y=-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                                    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y= -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050"/>
                </a:solidFill>
                <a:latin typeface="Arial"/>
                <a:ea typeface="宋体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2063160" y="472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7"/>
          <p:cNvGrpSpPr/>
          <p:nvPr/>
        </p:nvGrpSpPr>
        <p:grpSpPr>
          <a:xfrm>
            <a:off x="1342080" y="5229360"/>
            <a:ext cx="5066280" cy="1486800"/>
            <a:chOff x="1342080" y="5229360"/>
            <a:chExt cx="5066280" cy="1486800"/>
          </a:xfrm>
        </p:grpSpPr>
        <p:sp>
          <p:nvSpPr>
            <p:cNvPr id="397" name="Rectangle 8"/>
            <p:cNvSpPr/>
            <p:nvPr/>
          </p:nvSpPr>
          <p:spPr>
            <a:xfrm>
              <a:off x="1342080" y="548172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5050"/>
                  </a:solidFill>
                  <a:latin typeface="Arial"/>
                  <a:ea typeface="宋体"/>
                </a:rPr>
                <a:t>所以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4950000" y="5229360"/>
              <a:ext cx="118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=6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0"/>
            <p:cNvSpPr/>
            <p:nvPr/>
          </p:nvSpPr>
          <p:spPr>
            <a:xfrm>
              <a:off x="4940640" y="5769000"/>
              <a:ext cx="1467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1"/>
            <p:cNvSpPr/>
            <p:nvPr/>
          </p:nvSpPr>
          <p:spPr>
            <a:xfrm>
              <a:off x="4731120" y="5408640"/>
              <a:ext cx="183240" cy="828720"/>
            </a:xfrm>
            <a:custGeom>
              <a:avLst/>
              <a:gdLst>
                <a:gd name="textAreaLeft" fmla="*/ 117000 w 183240"/>
                <a:gd name="textAreaRight" fmla="*/ 183600 w 183240"/>
                <a:gd name="textAreaTop" fmla="*/ 21600 h 828720"/>
                <a:gd name="textAreaBottom" fmla="*/ 807120 h 8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1" name="Object 12"/>
          <p:cNvGraphicFramePr/>
          <p:nvPr/>
        </p:nvGraphicFramePr>
        <p:xfrm>
          <a:off x="5580000" y="4437000"/>
          <a:ext cx="3700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437000"/>
                    <a:ext cx="3700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3" name="Object 13" descr=""/>
          <p:cNvPicPr/>
          <p:nvPr/>
        </p:nvPicPr>
        <p:blipFill>
          <a:blip r:embed="rId5"/>
          <a:stretch/>
        </p:blipFill>
        <p:spPr>
          <a:xfrm>
            <a:off x="2195640" y="117360"/>
            <a:ext cx="25923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3"/>
          <p:cNvSpPr/>
          <p:nvPr/>
        </p:nvSpPr>
        <p:spPr>
          <a:xfrm>
            <a:off x="1258920" y="69228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f1803"/>
                </a:solidFill>
                <a:latin typeface="隶书"/>
                <a:ea typeface="隶书"/>
              </a:rPr>
              <a:t>加减法归纳：</a:t>
            </a:r>
            <a:r>
              <a:rPr b="0" lang="zh-CN" sz="3600" spc="-1" strike="noStrike">
                <a:solidFill>
                  <a:srgbClr val="df1803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11280" y="155736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加减法解同一个未知数的系数绝对值不相等的二元一次方程组时，把一个（或两个）方程的两边乘以适当的数，使两个方程中某一未知数的系数绝对值相等，从而化为第一类型方程组求解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47640" y="267336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用代入法解方程的关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14720" y="285840"/>
            <a:ext cx="55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根据等式性质填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044720" y="2060640"/>
            <a:ext cx="77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思考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a=b,c=d,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那么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±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c=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±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吗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42920" y="4221000"/>
            <a:ext cx="7885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解二元一次方程组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580000" y="836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b±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408280" y="1449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59640" y="83664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等式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443640" y="148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等式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224000" y="1449360"/>
            <a:ext cx="52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&lt;2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a=b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那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ac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332000" y="83664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&lt;1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a=b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那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a±c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3"/>
          <p:cNvGrpSpPr/>
          <p:nvPr/>
        </p:nvGrpSpPr>
        <p:grpSpPr>
          <a:xfrm>
            <a:off x="1440000" y="3176640"/>
            <a:ext cx="4498920" cy="964440"/>
            <a:chOff x="1440000" y="3176640"/>
            <a:chExt cx="4498920" cy="964440"/>
          </a:xfrm>
        </p:grpSpPr>
        <p:grpSp>
          <p:nvGrpSpPr>
            <p:cNvPr id="140" name=""/>
            <p:cNvGrpSpPr/>
            <p:nvPr/>
          </p:nvGrpSpPr>
          <p:grpSpPr>
            <a:xfrm>
              <a:off x="2626920" y="3715920"/>
              <a:ext cx="1908720" cy="1800"/>
              <a:chOff x="2626920" y="3715920"/>
              <a:chExt cx="1908720" cy="1800"/>
            </a:xfrm>
          </p:grpSpPr>
          <p:sp>
            <p:nvSpPr>
              <p:cNvPr id="141" name="Line 14"/>
              <p:cNvSpPr/>
              <p:nvPr/>
            </p:nvSpPr>
            <p:spPr>
              <a:xfrm flipV="1">
                <a:off x="2627280" y="3715920"/>
                <a:ext cx="1908360" cy="1800"/>
              </a:xfrm>
              <a:prstGeom prst="line">
                <a:avLst/>
              </a:prstGeom>
              <a:ln w="8568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 rot="10800000">
                <a:off x="2626920" y="3715920"/>
                <a:ext cx="19083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15"/>
            <p:cNvSpPr/>
            <p:nvPr/>
          </p:nvSpPr>
          <p:spPr>
            <a:xfrm>
              <a:off x="4643640" y="34657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一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2951280" y="3176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代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2843280" y="368136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转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8"/>
            <p:cNvSpPr/>
            <p:nvPr/>
          </p:nvSpPr>
          <p:spPr>
            <a:xfrm>
              <a:off x="1440000" y="3429000"/>
              <a:ext cx="11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二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1187280" y="494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消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2484360" y="4905360"/>
            <a:ext cx="3454560" cy="556920"/>
            <a:chOff x="2484360" y="4905360"/>
            <a:chExt cx="3454560" cy="556920"/>
          </a:xfrm>
        </p:grpSpPr>
        <p:grpSp>
          <p:nvGrpSpPr>
            <p:cNvPr id="149" name=""/>
            <p:cNvGrpSpPr/>
            <p:nvPr/>
          </p:nvGrpSpPr>
          <p:grpSpPr>
            <a:xfrm>
              <a:off x="3455640" y="5229360"/>
              <a:ext cx="1476720" cy="1440"/>
              <a:chOff x="3455640" y="5229360"/>
              <a:chExt cx="1476720" cy="1440"/>
            </a:xfrm>
          </p:grpSpPr>
          <p:sp>
            <p:nvSpPr>
              <p:cNvPr id="150" name="Line 21"/>
              <p:cNvSpPr/>
              <p:nvPr/>
            </p:nvSpPr>
            <p:spPr>
              <a:xfrm flipV="1">
                <a:off x="3456000" y="5229360"/>
                <a:ext cx="1476360" cy="1440"/>
              </a:xfrm>
              <a:prstGeom prst="line">
                <a:avLst/>
              </a:prstGeom>
              <a:ln w="8568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 rot="10800000">
                <a:off x="3455640" y="5229360"/>
                <a:ext cx="147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2"/>
            <p:cNvSpPr/>
            <p:nvPr/>
          </p:nvSpPr>
          <p:spPr>
            <a:xfrm>
              <a:off x="2484360" y="4905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二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3"/>
            <p:cNvSpPr/>
            <p:nvPr/>
          </p:nvSpPr>
          <p:spPr>
            <a:xfrm>
              <a:off x="4751280" y="4941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一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图片 23" descr="QQ截图20140828112823.png"/>
          <p:cNvPicPr/>
          <p:nvPr/>
        </p:nvPicPr>
        <p:blipFill>
          <a:blip r:embed="rId1"/>
          <a:stretch/>
        </p:blipFill>
        <p:spPr>
          <a:xfrm>
            <a:off x="0" y="0"/>
            <a:ext cx="20480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36360" y="714240"/>
            <a:ext cx="928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  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台大收割机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台小收割机同时工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共收个小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6h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台大收割机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台小收割机同时工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共收割小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 h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台大收割机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台小收割机每小时个收割小麦多少公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08000" y="357192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分析：如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台大收割机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台小收割机每小时各收割小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x  h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和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y  h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，那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台大收割机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台小收割机同时工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1 h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共收割小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____h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微软雅黑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,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台大收割机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台小收割机同时工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1h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共收割小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____h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，由此考虑两种情况下的工作量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3"/>
          <p:cNvSpPr/>
          <p:nvPr/>
        </p:nvSpPr>
        <p:spPr>
          <a:xfrm>
            <a:off x="928800" y="71424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微软雅黑"/>
              </a:rPr>
              <a:t>解：设一台大收割机和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微软雅黑"/>
              </a:rPr>
              <a:t>台小收割机每小时各收割小麦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微软雅黑"/>
              </a:rPr>
              <a:t>x hm</a:t>
            </a:r>
            <a:r>
              <a:rPr b="0" lang="en-US" sz="2800" spc="-1" strike="noStrike" baseline="30000">
                <a:solidFill>
                  <a:srgbClr val="ff5050"/>
                </a:solidFill>
                <a:latin typeface="Arial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微软雅黑"/>
              </a:rPr>
              <a:t>和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微软雅黑"/>
              </a:rPr>
              <a:t>y hm</a:t>
            </a:r>
            <a:r>
              <a:rPr b="0" lang="en-US" sz="2800" spc="-1" strike="noStrike" baseline="30000">
                <a:solidFill>
                  <a:srgbClr val="ff5050"/>
                </a:solidFill>
                <a:latin typeface="Arial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微软雅黑"/>
              </a:rPr>
              <a:t>，根据两种工作方式中的相等关系，得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Object 2" descr=""/>
          <p:cNvPicPr/>
          <p:nvPr/>
        </p:nvPicPr>
        <p:blipFill>
          <a:blip r:embed="rId1"/>
          <a:stretch/>
        </p:blipFill>
        <p:spPr>
          <a:xfrm>
            <a:off x="2643120" y="2214720"/>
            <a:ext cx="3071880" cy="136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0" name="TextBox 5"/>
          <p:cNvSpPr/>
          <p:nvPr/>
        </p:nvSpPr>
        <p:spPr>
          <a:xfrm>
            <a:off x="1285920" y="39290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微软雅黑"/>
              </a:rPr>
              <a:t>去括号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ject 3" descr=""/>
          <p:cNvPicPr/>
          <p:nvPr/>
        </p:nvPicPr>
        <p:blipFill>
          <a:blip r:embed="rId2"/>
          <a:stretch/>
        </p:blipFill>
        <p:spPr>
          <a:xfrm>
            <a:off x="3143160" y="4500720"/>
            <a:ext cx="2286000" cy="10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2" name="TextBox 7"/>
          <p:cNvSpPr/>
          <p:nvPr/>
        </p:nvSpPr>
        <p:spPr>
          <a:xfrm>
            <a:off x="5786280" y="4572000"/>
            <a:ext cx="49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①  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857160" y="600084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华文仿宋"/>
                <a:ea typeface="华文仿宋"/>
              </a:rPr>
              <a:t>②</a:t>
            </a:r>
            <a:r>
              <a:rPr b="1" lang="en-US" sz="2800" spc="-1" strike="noStrike">
                <a:solidFill>
                  <a:srgbClr val="ff5050"/>
                </a:solidFill>
                <a:latin typeface="华文仿宋"/>
                <a:ea typeface="华文仿宋"/>
              </a:rPr>
              <a:t>-</a:t>
            </a:r>
            <a:r>
              <a:rPr b="1" lang="zh-CN" sz="2800" spc="-1" strike="noStrike">
                <a:solidFill>
                  <a:srgbClr val="ff5050"/>
                </a:solidFill>
                <a:latin typeface="华文仿宋"/>
                <a:ea typeface="华文仿宋"/>
              </a:rPr>
              <a:t>①</a:t>
            </a:r>
            <a:r>
              <a:rPr b="1" lang="zh-CN" sz="2800" spc="-1" strike="noStrike">
                <a:solidFill>
                  <a:srgbClr val="ff5050"/>
                </a:solidFill>
                <a:latin typeface="华文仿宋"/>
                <a:ea typeface="华文仿宋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Object 2" descr=""/>
          <p:cNvPicPr/>
          <p:nvPr/>
        </p:nvPicPr>
        <p:blipFill>
          <a:blip r:embed="rId1"/>
          <a:stretch/>
        </p:blipFill>
        <p:spPr>
          <a:xfrm>
            <a:off x="3143160" y="785880"/>
            <a:ext cx="2000520" cy="57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5" name="TextBox 4"/>
          <p:cNvSpPr/>
          <p:nvPr/>
        </p:nvSpPr>
        <p:spPr>
          <a:xfrm>
            <a:off x="785880" y="164304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华文仿宋"/>
                <a:ea typeface="华文仿宋"/>
              </a:rPr>
              <a:t>解这个方程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Object 3" descr=""/>
          <p:cNvPicPr/>
          <p:nvPr/>
        </p:nvPicPr>
        <p:blipFill>
          <a:blip r:embed="rId2"/>
          <a:stretch/>
        </p:blipFill>
        <p:spPr>
          <a:xfrm>
            <a:off x="3355920" y="2286000"/>
            <a:ext cx="1575000" cy="5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Box 6"/>
          <p:cNvSpPr/>
          <p:nvPr/>
        </p:nvSpPr>
        <p:spPr>
          <a:xfrm>
            <a:off x="714240" y="307188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华文仿宋"/>
                <a:ea typeface="华文仿宋"/>
              </a:rPr>
              <a:t>把</a:t>
            </a:r>
            <a:r>
              <a:rPr b="1" lang="en-US" sz="2800" spc="-1" strike="noStrike">
                <a:solidFill>
                  <a:srgbClr val="ff5050"/>
                </a:solidFill>
                <a:latin typeface="华文仿宋"/>
                <a:ea typeface="华文仿宋"/>
              </a:rPr>
              <a:t>x=0.4</a:t>
            </a:r>
            <a:r>
              <a:rPr b="1" lang="zh-CN" sz="2800" spc="-1" strike="noStrike">
                <a:solidFill>
                  <a:srgbClr val="ff5050"/>
                </a:solidFill>
                <a:latin typeface="华文仿宋"/>
                <a:ea typeface="华文仿宋"/>
              </a:rPr>
              <a:t>代入①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Object 3" descr=""/>
          <p:cNvPicPr/>
          <p:nvPr/>
        </p:nvPicPr>
        <p:blipFill>
          <a:blip r:embed="rId3"/>
          <a:stretch/>
        </p:blipFill>
        <p:spPr>
          <a:xfrm>
            <a:off x="3286080" y="3603600"/>
            <a:ext cx="1575000" cy="65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Box 8"/>
          <p:cNvSpPr/>
          <p:nvPr/>
        </p:nvSpPr>
        <p:spPr>
          <a:xfrm>
            <a:off x="714240" y="4500720"/>
            <a:ext cx="48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因此，这个方程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Object 3" descr=""/>
          <p:cNvPicPr/>
          <p:nvPr/>
        </p:nvPicPr>
        <p:blipFill>
          <a:blip r:embed="rId4"/>
          <a:stretch/>
        </p:blipFill>
        <p:spPr>
          <a:xfrm>
            <a:off x="2928960" y="5214960"/>
            <a:ext cx="1871640" cy="146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图片 3" descr="QQ截图20140828112418.png"/>
          <p:cNvPicPr/>
          <p:nvPr/>
        </p:nvPicPr>
        <p:blipFill>
          <a:blip r:embed="rId1"/>
          <a:stretch/>
        </p:blipFill>
        <p:spPr>
          <a:xfrm>
            <a:off x="500040" y="857160"/>
            <a:ext cx="2557440" cy="8575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714240" y="2214720"/>
            <a:ext cx="7358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4649"/>
                </a:solidFill>
                <a:latin typeface="Arial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1e4649"/>
                </a:solidFill>
                <a:latin typeface="Arial"/>
                <a:ea typeface="微软雅黑"/>
              </a:rPr>
              <a:t>代入消元法和加减消元法是二元一次方程组的两种解法，它们都是通过消元使方程组转化为一元一次方程，只是消元的方法不同，我们应根据方程组的具体情况，选择适合它的解法</a:t>
            </a:r>
            <a:r>
              <a:rPr b="0" lang="zh-CN" sz="2800" spc="-1" strike="noStrike">
                <a:solidFill>
                  <a:srgbClr val="1e4649"/>
                </a:solidFill>
                <a:latin typeface="Arial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425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539640" y="1781280"/>
            <a:ext cx="81010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代入法怎样解下面的二元一次方程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1714680" y="2428920"/>
            <a:ext cx="3467160" cy="1407240"/>
            <a:chOff x="1714680" y="2428920"/>
            <a:chExt cx="3467160" cy="1407240"/>
          </a:xfrm>
        </p:grpSpPr>
        <p:pic>
          <p:nvPicPr>
            <p:cNvPr id="157" name="Object 6" descr=""/>
            <p:cNvPicPr/>
            <p:nvPr/>
          </p:nvPicPr>
          <p:blipFill>
            <a:blip r:embed="rId1"/>
            <a:stretch/>
          </p:blipFill>
          <p:spPr>
            <a:xfrm>
              <a:off x="1714680" y="2428920"/>
              <a:ext cx="2686680" cy="14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7"/>
            <p:cNvSpPr/>
            <p:nvPr/>
          </p:nvSpPr>
          <p:spPr>
            <a:xfrm>
              <a:off x="4696920" y="2569320"/>
              <a:ext cx="453600" cy="4597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4728240" y="3376440"/>
              <a:ext cx="453600" cy="4597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图片 11" descr="QQ截图20140828111313.png"/>
          <p:cNvPicPr/>
          <p:nvPr/>
        </p:nvPicPr>
        <p:blipFill>
          <a:blip r:embed="rId2"/>
          <a:stretch/>
        </p:blipFill>
        <p:spPr>
          <a:xfrm>
            <a:off x="285840" y="642960"/>
            <a:ext cx="20764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rcRect l="4222" t="5828" r="0" b="0"/>
          <a:stretch/>
        </p:blipFill>
        <p:spPr>
          <a:xfrm>
            <a:off x="6227640" y="4373640"/>
            <a:ext cx="1654200" cy="24843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428760" y="642960"/>
            <a:ext cx="648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怎样解下面的二元一次方程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1187280" y="3105000"/>
            <a:ext cx="4471920" cy="2305080"/>
            <a:chOff x="1187280" y="3105000"/>
            <a:chExt cx="4471920" cy="2305080"/>
          </a:xfrm>
        </p:grpSpPr>
        <p:sp>
          <p:nvSpPr>
            <p:cNvPr id="164" name="Text Box 7"/>
            <p:cNvSpPr/>
            <p:nvPr/>
          </p:nvSpPr>
          <p:spPr>
            <a:xfrm>
              <a:off x="1258560" y="4400280"/>
              <a:ext cx="40690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入①，消去 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了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2087280" y="3105000"/>
              <a:ext cx="30196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②变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9"/>
                <p:cNvSpPr txBox="1"/>
                <p:nvPr/>
              </p:nvSpPr>
              <p:spPr>
                <a:xfrm>
                  <a:off x="2158920" y="3716280"/>
                  <a:ext cx="21207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pic>
          <p:nvPicPr>
            <p:cNvPr id="167" name="Object 10" descr=""/>
            <p:cNvPicPr/>
            <p:nvPr/>
          </p:nvPicPr>
          <p:blipFill>
            <a:blip r:embed="rId2"/>
            <a:stretch/>
          </p:blipFill>
          <p:spPr>
            <a:xfrm>
              <a:off x="4063680" y="4351320"/>
              <a:ext cx="1908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AutoShape 11"/>
            <p:cNvSpPr/>
            <p:nvPr/>
          </p:nvSpPr>
          <p:spPr>
            <a:xfrm>
              <a:off x="1187280" y="3105000"/>
              <a:ext cx="4471920" cy="2305080"/>
            </a:xfrm>
            <a:prstGeom prst="wedgeRoundRectCallout">
              <a:avLst>
                <a:gd name="adj1" fmla="val 56601"/>
                <a:gd name="adj2" fmla="val 91388"/>
                <a:gd name="adj3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12"/>
          <p:cNvSpPr/>
          <p:nvPr/>
        </p:nvSpPr>
        <p:spPr>
          <a:xfrm>
            <a:off x="6694560" y="2133720"/>
            <a:ext cx="2449440" cy="1476360"/>
          </a:xfrm>
          <a:prstGeom prst="cloudCallout">
            <a:avLst>
              <a:gd name="adj1" fmla="val -55055"/>
              <a:gd name="adj2" fmla="val 92902"/>
            </a:avLst>
          </a:prstGeom>
          <a:solidFill>
            <a:srgbClr val="bbe0e3"/>
          </a:solidFill>
          <a:ln w="763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入消元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924360" y="4257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2664000" y="1413000"/>
            <a:ext cx="3467160" cy="1407240"/>
            <a:chOff x="2664000" y="1413000"/>
            <a:chExt cx="3467160" cy="1407240"/>
          </a:xfrm>
        </p:grpSpPr>
        <p:pic>
          <p:nvPicPr>
            <p:cNvPr id="172" name="Object 16" descr=""/>
            <p:cNvPicPr/>
            <p:nvPr/>
          </p:nvPicPr>
          <p:blipFill>
            <a:blip r:embed="rId3"/>
            <a:stretch/>
          </p:blipFill>
          <p:spPr>
            <a:xfrm>
              <a:off x="2664000" y="1413000"/>
              <a:ext cx="2686680" cy="14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17"/>
            <p:cNvSpPr/>
            <p:nvPr/>
          </p:nvSpPr>
          <p:spPr>
            <a:xfrm>
              <a:off x="5646240" y="1553400"/>
              <a:ext cx="453600" cy="4597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5677560" y="2360520"/>
              <a:ext cx="453600" cy="4597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00040" y="135720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还别的方法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52360" y="2457360"/>
            <a:ext cx="83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真观察此方程组中各个未知数的系数有什么特点，并分组讨论看还有没有其它的解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尝试一下能否求出它的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6696000" y="3537000"/>
            <a:ext cx="21146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8"/>
          <p:cNvGrpSpPr/>
          <p:nvPr/>
        </p:nvGrpSpPr>
        <p:grpSpPr>
          <a:xfrm>
            <a:off x="1871640" y="4076640"/>
            <a:ext cx="3467520" cy="1407600"/>
            <a:chOff x="1871640" y="4076640"/>
            <a:chExt cx="3467520" cy="1407600"/>
          </a:xfrm>
        </p:grpSpPr>
        <mc:AlternateContent>
          <mc:Choice xmlns:a14="http://schemas.microsoft.com/office/drawing/2010/main" Requires="a14">
            <p:sp>
              <p:nvSpPr>
                <p:cNvPr id="179" name="Object 9"/>
                <p:cNvSpPr txBox="1"/>
                <p:nvPr/>
              </p:nvSpPr>
              <p:spPr>
                <a:xfrm>
                  <a:off x="1871640" y="4076640"/>
                  <a:ext cx="2686680" cy="140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Rectangle 10"/>
            <p:cNvSpPr/>
            <p:nvPr/>
          </p:nvSpPr>
          <p:spPr>
            <a:xfrm>
              <a:off x="4854240" y="4217400"/>
              <a:ext cx="453600" cy="4597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4885560" y="5024520"/>
              <a:ext cx="453600" cy="4597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图片 11" descr="QQ截图20140828111313.png"/>
          <p:cNvPicPr/>
          <p:nvPr/>
        </p:nvPicPr>
        <p:blipFill>
          <a:blip r:embed="rId2"/>
          <a:stretch/>
        </p:blipFill>
        <p:spPr>
          <a:xfrm>
            <a:off x="0" y="500040"/>
            <a:ext cx="2357280" cy="7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6360" y="1628280"/>
            <a:ext cx="7596000" cy="26290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方程组中的两个方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知数</a:t>
            </a: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系数相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两个方程两边分别相减，就可以消去未知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得到一个一元一次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76360" y="4076640"/>
            <a:ext cx="67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即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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去未知数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得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=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入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得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=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079640" y="152280"/>
            <a:ext cx="3467160" cy="1407600"/>
            <a:chOff x="1079640" y="152280"/>
            <a:chExt cx="3467160" cy="1407600"/>
          </a:xfrm>
        </p:grpSpPr>
        <mc:AlternateContent>
          <mc:Choice xmlns:a14="http://schemas.microsoft.com/office/drawing/2010/main" Requires="a14">
            <p:sp>
              <p:nvSpPr>
                <p:cNvPr id="186" name="Object 5"/>
                <p:cNvSpPr txBox="1"/>
                <p:nvPr/>
              </p:nvSpPr>
              <p:spPr>
                <a:xfrm>
                  <a:off x="1079640" y="152280"/>
                  <a:ext cx="2686680" cy="140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Rectangle 6"/>
            <p:cNvSpPr/>
            <p:nvPr/>
          </p:nvSpPr>
          <p:spPr>
            <a:xfrm>
              <a:off x="4061880" y="293040"/>
              <a:ext cx="453600" cy="4597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093200" y="1100160"/>
              <a:ext cx="453600" cy="4597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8"/>
          <p:cNvSpPr/>
          <p:nvPr/>
        </p:nvSpPr>
        <p:spPr>
          <a:xfrm>
            <a:off x="1836720" y="152280"/>
            <a:ext cx="790560" cy="1476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1342080" y="5589720"/>
            <a:ext cx="5750640" cy="1059120"/>
            <a:chOff x="1342080" y="5589720"/>
            <a:chExt cx="5750640" cy="1059120"/>
          </a:xfrm>
        </p:grpSpPr>
        <p:sp>
          <p:nvSpPr>
            <p:cNvPr id="191" name="Rectangle 10"/>
            <p:cNvSpPr/>
            <p:nvPr/>
          </p:nvSpPr>
          <p:spPr>
            <a:xfrm>
              <a:off x="1342080" y="584172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所以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5460120" y="5589720"/>
              <a:ext cx="132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=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5449320" y="6128280"/>
              <a:ext cx="16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3"/>
            <p:cNvSpPr/>
            <p:nvPr/>
          </p:nvSpPr>
          <p:spPr>
            <a:xfrm>
              <a:off x="5214960" y="5768640"/>
              <a:ext cx="205200" cy="827280"/>
            </a:xfrm>
            <a:custGeom>
              <a:avLst/>
              <a:gdLst>
                <a:gd name="textAreaLeft" fmla="*/ 131040 w 205200"/>
                <a:gd name="textAreaRight" fmla="*/ 205560 w 205200"/>
                <a:gd name="textAreaTop" fmla="*/ 21240 h 827280"/>
                <a:gd name="textAreaBottom" fmla="*/ 806040 h 8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428920" y="2214720"/>
            <a:ext cx="41036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+10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=2.8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x-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=8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266920" y="2384280"/>
            <a:ext cx="181080" cy="1189080"/>
          </a:xfrm>
          <a:custGeom>
            <a:avLst/>
            <a:gdLst>
              <a:gd name="textAreaLeft" fmla="*/ 115920 w 181080"/>
              <a:gd name="textAreaRight" fmla="*/ 181440 w 18108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0" y="45561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方程组中的两个方程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未知数</a:t>
            </a:r>
            <a:r>
              <a:rPr b="0" i="1" lang="zh-CN" sz="2800" spc="-1" strike="noStrike">
                <a:solidFill>
                  <a:srgbClr val="ff5050"/>
                </a:solidFill>
                <a:latin typeface="Arial"/>
                <a:ea typeface="宋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系数相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两个方程两边分别相加，就可以消去未知数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同样得到一个一元一次方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079640" y="3824280"/>
            <a:ext cx="20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分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85840" y="9288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解方程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AG00175_"/>
          <p:cNvPicPr/>
          <p:nvPr/>
        </p:nvPicPr>
        <p:blipFill>
          <a:blip r:embed="rId1"/>
          <a:stretch/>
        </p:blipFill>
        <p:spPr>
          <a:xfrm>
            <a:off x="7451640" y="333360"/>
            <a:ext cx="10288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403280" y="1596960"/>
            <a:ext cx="4141440" cy="1616040"/>
            <a:chOff x="1403280" y="1596960"/>
            <a:chExt cx="4141440" cy="1616040"/>
          </a:xfrm>
        </p:grpSpPr>
        <p:sp>
          <p:nvSpPr>
            <p:cNvPr id="202" name="Text Box 3"/>
            <p:cNvSpPr/>
            <p:nvPr/>
          </p:nvSpPr>
          <p:spPr>
            <a:xfrm>
              <a:off x="1627560" y="1596960"/>
              <a:ext cx="39171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4"/>
            <p:cNvSpPr/>
            <p:nvPr/>
          </p:nvSpPr>
          <p:spPr>
            <a:xfrm>
              <a:off x="1403280" y="1812960"/>
              <a:ext cx="167760" cy="1189080"/>
            </a:xfrm>
            <a:custGeom>
              <a:avLst/>
              <a:gdLst>
                <a:gd name="textAreaLeft" fmla="*/ 107280 w 167760"/>
                <a:gd name="textAreaRight" fmla="*/ 168120 w 167760"/>
                <a:gd name="textAreaTop" fmla="*/ 30960 h 1189080"/>
                <a:gd name="textAreaBottom" fmla="*/ 1158120 h 11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5"/>
          <p:cNvSpPr/>
          <p:nvPr/>
        </p:nvSpPr>
        <p:spPr>
          <a:xfrm>
            <a:off x="1224000" y="2997360"/>
            <a:ext cx="50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：把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+①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得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.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0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260360" y="4005360"/>
            <a:ext cx="53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0.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入①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×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0.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+10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319640" y="512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得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0.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1269000" y="5626080"/>
            <a:ext cx="5750640" cy="1059120"/>
            <a:chOff x="1269000" y="5626080"/>
            <a:chExt cx="5750640" cy="1059120"/>
          </a:xfrm>
        </p:grpSpPr>
        <p:sp>
          <p:nvSpPr>
            <p:cNvPr id="208" name="Rectangle 9"/>
            <p:cNvSpPr/>
            <p:nvPr/>
          </p:nvSpPr>
          <p:spPr>
            <a:xfrm>
              <a:off x="1269000" y="58780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所以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5387040" y="5626080"/>
              <a:ext cx="132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=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6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>
              <a:off x="5376240" y="6164640"/>
              <a:ext cx="16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1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2"/>
            <p:cNvSpPr/>
            <p:nvPr/>
          </p:nvSpPr>
          <p:spPr>
            <a:xfrm>
              <a:off x="5141880" y="5805000"/>
              <a:ext cx="205200" cy="827280"/>
            </a:xfrm>
            <a:custGeom>
              <a:avLst/>
              <a:gdLst>
                <a:gd name="textAreaLeft" fmla="*/ 131040 w 205200"/>
                <a:gd name="textAreaRight" fmla="*/ 205560 w 205200"/>
                <a:gd name="textAreaTop" fmla="*/ 21240 h 827280"/>
                <a:gd name="textAreaBottom" fmla="*/ 806040 h 8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17"/>
          <p:cNvSpPr/>
          <p:nvPr/>
        </p:nvSpPr>
        <p:spPr>
          <a:xfrm>
            <a:off x="1428840" y="1428840"/>
            <a:ext cx="162000" cy="1189080"/>
          </a:xfrm>
          <a:custGeom>
            <a:avLst/>
            <a:gdLst>
              <a:gd name="textAreaLeft" fmla="*/ 103680 w 162000"/>
              <a:gd name="textAreaRight" fmla="*/ 162360 w 16200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1655640" y="1521000"/>
            <a:ext cx="3745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+10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=2.8,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=8 .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1042920" y="512640"/>
            <a:ext cx="8089920" cy="2798640"/>
            <a:chOff x="1042920" y="512640"/>
            <a:chExt cx="8089920" cy="2798640"/>
          </a:xfrm>
        </p:grpSpPr>
        <p:grpSp>
          <p:nvGrpSpPr>
            <p:cNvPr id="215" name="Group 3"/>
            <p:cNvGrpSpPr/>
            <p:nvPr/>
          </p:nvGrpSpPr>
          <p:grpSpPr>
            <a:xfrm>
              <a:off x="1042920" y="512640"/>
              <a:ext cx="3276720" cy="2798640"/>
              <a:chOff x="1042920" y="512640"/>
              <a:chExt cx="3276720" cy="2798640"/>
            </a:xfrm>
          </p:grpSpPr>
          <p:grpSp>
            <p:nvGrpSpPr>
              <p:cNvPr id="216" name="Group 4"/>
              <p:cNvGrpSpPr/>
              <p:nvPr/>
            </p:nvGrpSpPr>
            <p:grpSpPr>
              <a:xfrm>
                <a:off x="1042920" y="512640"/>
                <a:ext cx="3276720" cy="2798640"/>
                <a:chOff x="1042920" y="512640"/>
                <a:chExt cx="3276720" cy="2798640"/>
              </a:xfrm>
            </p:grpSpPr>
            <p:pic>
              <p:nvPicPr>
                <p:cNvPr id="217" name="Picture 5" descr=""/>
                <p:cNvPicPr/>
                <p:nvPr/>
              </p:nvPicPr>
              <p:blipFill>
                <a:blip r:embed="rId1"/>
                <a:srcRect l="57987" t="0" r="15758" b="67570"/>
                <a:stretch/>
              </p:blipFill>
              <p:spPr>
                <a:xfrm>
                  <a:off x="1295280" y="2168280"/>
                  <a:ext cx="1143000" cy="114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AutoShape 6"/>
                <p:cNvSpPr/>
                <p:nvPr/>
              </p:nvSpPr>
              <p:spPr>
                <a:xfrm>
                  <a:off x="1042920" y="512640"/>
                  <a:ext cx="3276720" cy="1332000"/>
                </a:xfrm>
                <a:prstGeom prst="cloudCallout">
                  <a:avLst>
                    <a:gd name="adj1" fmla="val -18361"/>
                    <a:gd name="adj2" fmla="val 69425"/>
                  </a:avLst>
                </a:prstGeom>
                <a:noFill/>
                <a:ln w="936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7"/>
              <p:cNvGrpSpPr/>
              <p:nvPr/>
            </p:nvGrpSpPr>
            <p:grpSpPr>
              <a:xfrm>
                <a:off x="1439640" y="668160"/>
                <a:ext cx="2514600" cy="1031760"/>
                <a:chOff x="1439640" y="668160"/>
                <a:chExt cx="2514600" cy="1031760"/>
              </a:xfrm>
            </p:grpSpPr>
            <p:sp>
              <p:nvSpPr>
                <p:cNvPr id="220" name="Text Box 8"/>
                <p:cNvSpPr/>
                <p:nvPr/>
              </p:nvSpPr>
              <p:spPr>
                <a:xfrm>
                  <a:off x="2000160" y="714240"/>
                  <a:ext cx="609480" cy="4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1" name="Object 9"/>
                    <p:cNvSpPr txBox="1"/>
                    <p:nvPr/>
                  </p:nvSpPr>
                  <p:spPr>
                    <a:xfrm>
                      <a:off x="1515960" y="674640"/>
                      <a:ext cx="533160" cy="469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  <m:r>
                                      <m:t xml:space="preserve">,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5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</m:mr>
                              </m:m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  <p:pic>
              <p:nvPicPr>
                <p:cNvPr id="222" name="Object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68520" y="668160"/>
                  <a:ext cx="87624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Text Box 11"/>
                <p:cNvSpPr/>
                <p:nvPr/>
              </p:nvSpPr>
              <p:spPr>
                <a:xfrm>
                  <a:off x="1439640" y="1290600"/>
                  <a:ext cx="251460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互为相反数……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" name="Rectangle 12"/>
            <p:cNvSpPr/>
            <p:nvPr/>
          </p:nvSpPr>
          <p:spPr>
            <a:xfrm>
              <a:off x="4392720" y="583920"/>
              <a:ext cx="4740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看看小丽的思路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你能消去一个未知数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3"/>
          <p:cNvSpPr/>
          <p:nvPr/>
        </p:nvSpPr>
        <p:spPr>
          <a:xfrm>
            <a:off x="1919520" y="3498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分析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"/>
          <p:cNvGrpSpPr/>
          <p:nvPr/>
        </p:nvGrpSpPr>
        <p:grpSpPr>
          <a:xfrm>
            <a:off x="3152880" y="1916280"/>
            <a:ext cx="3583080" cy="1496880"/>
            <a:chOff x="3152880" y="1916280"/>
            <a:chExt cx="3583080" cy="1496880"/>
          </a:xfrm>
        </p:grpSpPr>
        <p:pic>
          <p:nvPicPr>
            <p:cNvPr id="227" name="Object 15" descr=""/>
            <p:cNvPicPr/>
            <p:nvPr/>
          </p:nvPicPr>
          <p:blipFill>
            <a:blip r:embed="rId3"/>
            <a:stretch/>
          </p:blipFill>
          <p:spPr>
            <a:xfrm>
              <a:off x="3152880" y="1916280"/>
              <a:ext cx="298260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16"/>
            <p:cNvSpPr/>
            <p:nvPr/>
          </p:nvSpPr>
          <p:spPr>
            <a:xfrm>
              <a:off x="6282360" y="20242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7"/>
            <p:cNvSpPr/>
            <p:nvPr/>
          </p:nvSpPr>
          <p:spPr>
            <a:xfrm>
              <a:off x="6282360" y="277992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527280" y="2600280"/>
            <a:ext cx="1297080" cy="360"/>
            <a:chOff x="3527280" y="2600280"/>
            <a:chExt cx="1297080" cy="360"/>
          </a:xfrm>
        </p:grpSpPr>
        <p:sp>
          <p:nvSpPr>
            <p:cNvPr id="231" name="Line 18"/>
            <p:cNvSpPr/>
            <p:nvPr/>
          </p:nvSpPr>
          <p:spPr>
            <a:xfrm>
              <a:off x="3527280" y="2600280"/>
              <a:ext cx="129708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3527280" y="260028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403280" y="4437000"/>
            <a:ext cx="1298520" cy="1800"/>
            <a:chOff x="1403280" y="4437000"/>
            <a:chExt cx="1298520" cy="1800"/>
          </a:xfrm>
        </p:grpSpPr>
        <p:sp>
          <p:nvSpPr>
            <p:cNvPr id="234" name="Line 19"/>
            <p:cNvSpPr/>
            <p:nvPr/>
          </p:nvSpPr>
          <p:spPr>
            <a:xfrm>
              <a:off x="1403280" y="4437000"/>
              <a:ext cx="1298520" cy="180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403280" y="4437000"/>
              <a:ext cx="1298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527280" y="3392640"/>
            <a:ext cx="1333800" cy="1440"/>
            <a:chOff x="3527280" y="3392640"/>
            <a:chExt cx="1333800" cy="1440"/>
          </a:xfrm>
        </p:grpSpPr>
        <p:sp>
          <p:nvSpPr>
            <p:cNvPr id="237" name="Line 20"/>
            <p:cNvSpPr/>
            <p:nvPr/>
          </p:nvSpPr>
          <p:spPr>
            <a:xfrm>
              <a:off x="3527280" y="3392640"/>
              <a:ext cx="1333800" cy="1440"/>
            </a:xfrm>
            <a:prstGeom prst="line">
              <a:avLst/>
            </a:prstGeom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3527280" y="3392640"/>
              <a:ext cx="1333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924360" y="4437000"/>
            <a:ext cx="1333440" cy="1800"/>
            <a:chOff x="3924360" y="4437000"/>
            <a:chExt cx="1333440" cy="1800"/>
          </a:xfrm>
        </p:grpSpPr>
        <p:sp>
          <p:nvSpPr>
            <p:cNvPr id="240" name="Line 21"/>
            <p:cNvSpPr/>
            <p:nvPr/>
          </p:nvSpPr>
          <p:spPr>
            <a:xfrm>
              <a:off x="3924360" y="4437000"/>
              <a:ext cx="1333440" cy="1800"/>
            </a:xfrm>
            <a:prstGeom prst="line">
              <a:avLst/>
            </a:prstGeom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924360" y="4437000"/>
              <a:ext cx="1333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64000" y="2600280"/>
            <a:ext cx="648000" cy="360"/>
            <a:chOff x="5364000" y="2600280"/>
            <a:chExt cx="648000" cy="360"/>
          </a:xfrm>
        </p:grpSpPr>
        <p:sp>
          <p:nvSpPr>
            <p:cNvPr id="243" name="Line 22"/>
            <p:cNvSpPr/>
            <p:nvPr/>
          </p:nvSpPr>
          <p:spPr>
            <a:xfrm>
              <a:off x="5364000" y="2600280"/>
              <a:ext cx="648000" cy="0"/>
            </a:xfrm>
            <a:prstGeom prst="line">
              <a:avLst/>
            </a:prstGeom>
            <a:ln w="38160">
              <a:solidFill>
                <a:srgbClr val="ff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5364000" y="2600280"/>
              <a:ext cx="6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37080" y="3392640"/>
            <a:ext cx="647640" cy="1440"/>
            <a:chOff x="5437080" y="3392640"/>
            <a:chExt cx="647640" cy="1440"/>
          </a:xfrm>
        </p:grpSpPr>
        <p:sp>
          <p:nvSpPr>
            <p:cNvPr id="246" name="Line 23"/>
            <p:cNvSpPr/>
            <p:nvPr/>
          </p:nvSpPr>
          <p:spPr>
            <a:xfrm>
              <a:off x="5437080" y="3392640"/>
              <a:ext cx="647640" cy="1440"/>
            </a:xfrm>
            <a:prstGeom prst="line">
              <a:avLst/>
            </a:prstGeom>
            <a:ln w="381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5437080" y="3392640"/>
              <a:ext cx="647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093080" y="4437000"/>
            <a:ext cx="647640" cy="1800"/>
            <a:chOff x="7093080" y="4437000"/>
            <a:chExt cx="647640" cy="1800"/>
          </a:xfrm>
        </p:grpSpPr>
        <p:sp>
          <p:nvSpPr>
            <p:cNvPr id="249" name="Line 24"/>
            <p:cNvSpPr/>
            <p:nvPr/>
          </p:nvSpPr>
          <p:spPr>
            <a:xfrm>
              <a:off x="7093080" y="4437000"/>
              <a:ext cx="647640" cy="1800"/>
            </a:xfrm>
            <a:prstGeom prst="line">
              <a:avLst/>
            </a:prstGeom>
            <a:ln w="381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093080" y="4437000"/>
              <a:ext cx="647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96000" y="4437000"/>
            <a:ext cx="647640" cy="1800"/>
            <a:chOff x="5796000" y="4437000"/>
            <a:chExt cx="647640" cy="1800"/>
          </a:xfrm>
        </p:grpSpPr>
        <p:sp>
          <p:nvSpPr>
            <p:cNvPr id="252" name="Line 25"/>
            <p:cNvSpPr/>
            <p:nvPr/>
          </p:nvSpPr>
          <p:spPr>
            <a:xfrm>
              <a:off x="5796000" y="4437000"/>
              <a:ext cx="647640" cy="1800"/>
            </a:xfrm>
            <a:prstGeom prst="line">
              <a:avLst/>
            </a:prstGeom>
            <a:ln w="38160">
              <a:solidFill>
                <a:srgbClr val="ff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796000" y="4437000"/>
              <a:ext cx="647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26"/>
          <p:cNvSpPr/>
          <p:nvPr/>
        </p:nvSpPr>
        <p:spPr>
          <a:xfrm>
            <a:off x="2629080" y="5157720"/>
            <a:ext cx="464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+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y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,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1721880" y="4653000"/>
            <a:ext cx="56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左边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+     ②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左边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=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右边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+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4284720" y="5734080"/>
            <a:ext cx="22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1008000" y="3933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+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－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1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30"/>
          <p:cNvSpPr/>
          <p:nvPr/>
        </p:nvSpPr>
        <p:spPr>
          <a:xfrm rot="5400000">
            <a:off x="6502320" y="2363760"/>
            <a:ext cx="1973160" cy="100800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8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08:41:00Z</dcterms:created>
  <dc:creator>Administrator</dc:creator>
  <dc:description/>
  <dc:language>en-US</dc:language>
  <cp:lastModifiedBy>Administrator</cp:lastModifiedBy>
  <dcterms:modified xsi:type="dcterms:W3CDTF">2014-12-03T06:24:10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